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CC6-071A-410A-8B90-F5D70F59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570-B710-4A2A-94A1-276C0FB7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F91-F6DE-476A-BF55-C4C24C67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1E1-D9A6-4F10-BD9D-EF20E371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5EF-1ED7-4738-8086-7F227A40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FF3-639F-4092-9925-B7ADF515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354-EB66-4391-A1BC-CAA5E37F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F01-F29C-4687-AC80-D5AD1822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B05-39E5-4FC3-B043-896FF1F5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077-AD61-41DF-A649-61520576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90A-D93F-445A-9597-00D95670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5B2E-D799-4F1D-A1E2-3AF67308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7055-2663-4786-9270-42877D73D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Feri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xel (C.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m eine C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4953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schwimmen gewoh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733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wandern gewoh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Maine Hiking"/>
          <p:cNvPicPr/>
          <p:nvPr/>
        </p:nvPicPr>
        <p:blipFill>
          <a:blip r:embed="rId1"/>
          <a:stretch/>
        </p:blipFill>
        <p:spPr>
          <a:xfrm>
            <a:off x="533520" y="2819520"/>
            <a:ext cx="3952800" cy="3162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Colorado Hiking"/>
          <p:cNvPicPr/>
          <p:nvPr/>
        </p:nvPicPr>
        <p:blipFill>
          <a:blip r:embed="rId2"/>
          <a:stretch/>
        </p:blipFill>
        <p:spPr>
          <a:xfrm>
            <a:off x="4724280" y="2819520"/>
            <a:ext cx="39531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resturant wa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4267080" cy="3353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gefallt Italia sehr g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 sehe Italia gesu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Ital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n Sizil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4267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m Weston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n room e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3953160" cy="316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3952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fussball gespie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2871720"/>
            <a:ext cx="45720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eine pasta geges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191120" cy="380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3810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Cola getrun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91040" y="2438280"/>
            <a:ext cx="3543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freunde ges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47530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book gel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72392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t eine Bo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4191120" cy="4286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029200" y="2209680"/>
            <a:ext cx="381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00:19Z</dcterms:created>
  <dc:creator>CUSD220</dc:creator>
  <dc:description/>
  <dc:language>en-US</dc:language>
  <cp:lastModifiedBy>CUSD220</cp:lastModifiedBy>
  <dcterms:modified xsi:type="dcterms:W3CDTF">2011-11-15T18:43:38Z</dcterms:modified>
  <cp:revision>4</cp:revision>
  <dc:subject/>
  <dc:title>Meine Ferien </dc:title>
</cp:coreProperties>
</file>